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2B4-A88A-4363-BE40-35621CC2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394-0D48-41AE-85E7-A3A846CF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9CD-E093-49D7-BC87-D1120BE6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440-14F2-42E2-AD22-6FDD6F5A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F6C3A-D879-4874-A22D-5AE74E92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8CD66-73AC-45CA-8892-81617019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7C958-6227-48CD-A485-2154B41A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455AD-EBEB-43F9-B0DD-4D6FB04A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CACF2-83BE-4DCC-9A16-E6B7F124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9A1AD-4B7C-4A7D-BF85-5E4B95AC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AE376-D0BE-49C3-A261-3E0DF177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6BB-12A0-4CDB-BF51-E1EFCFB0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6E9F2-61DD-49BA-89DF-87D1CDB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7B012-2D89-44B6-94F8-CCE96E2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CB7CB-450A-4D6D-8DFA-E4514F18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64AAC-A30C-4B7F-9DC4-E867C9E5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85194-D56E-470B-955D-406E353F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48C-DCFC-4070-B617-18245483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6DE-92AC-4CD2-9516-2332B0D6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EF9-432E-43B4-9DC5-C7140184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0E3-782E-40B3-A405-F29B414A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8CB-A1D3-4951-B180-3D61C8A8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2B2-C8F3-4E29-B626-45EDDFF1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EA4-C559-4FEC-8604-C757C3F6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1C34-3FFE-48C5-8153-F0DDCD65B35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4DB5-76D4-46DA-A250-9D3F64DCB1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es/imgres?imgurl=www-etsi2.ugr.es/download/logos/ugr512x512.gif&amp;imgrefurl=http://www-etsi2.ugr.es/download/logos/&amp;h=512&amp;w=512&amp;sz=120&amp;tbnid=9mWjbpoGjpoJ:&amp;tbnh=128&amp;tbnw=128&amp;prev=/images%3Fq%3Dugr%26hl%3Des%26lr%3D%26ie%3DUTF-8%26oe%3DUTF-8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ALTERACIONES ATENCIONALES Y DE LA FUNCIÓN EJECUTIVA EN ESCLEROSIS MÚLTI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BAJO DE INVESTIGACIÓN 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ariángeles Rodríguez Arta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Tutor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Dr. Miguel Pérez, Dra. Carmen Arnal y Dr. Emilio G. Mil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3141720"/>
            <a:ext cx="25905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LA ATENCIÓN NO ES UNITA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ferenciamos al menos ent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Atención sostenid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o vigilancia (capacidad de atender a algo por varios minut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Atención selectiv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(atender a la señal e ignorar los distractor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Atención dividid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 control (hacer dos cosas a la vez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Las tareas clásicas  de atención miden los tres componentes mezclados en diferente gr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MODELOS CLÍNICOS DE ATEN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modelo de Posner diferencia entre atención espacial (selectiva), alerta  (sostenida) y función ejecutiva (contro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ide los tres componentes con una tarea de Tiempo de Reacción (TR): ANT o test de las redes atencio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unción ejecutiva no es unitaria: Control, inhibición de respuesta, memoria de trabajo, cambio de intención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uno de estos componentes se mide con tareas diferentes de T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Vamos a incorporar por primera vez estas tareas en la Evaluación Neuropsicológica en 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OBJETIVOS DEL TRABAJ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con claridad si hay alteraciones atencionales en EMR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leccionar tareas atencionales psicométricas y de TR que midan todos los componentes de la ate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udiar su validez convergente (si miden lo mism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si las variables clínicas (depresión, discapacidad física...) afectan al rendimiento en las tareas aten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HIPÓTE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EM se produce lentitud de procesamiento de la inform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EM se produce depresión y ansie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EM se produce un daño atencional, que no se debe a los anteriores fact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daño atencional es específico (hay componentes intactos y otros dañad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tareas psicométricas miden atención general y las de TR componentes específ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tareas de TR capturan mejor el daño atencional en 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MÉTO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icipantes: 26 personas con EMRR del servicio de Neurología del Hospital Virgen de las Nieves y 26 contro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cedimiento: cada participante pasa todas las tareas en dos sesiones de una hora de duración cada una, de manera individ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PROTOCO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Tareas  de atención Psicométrica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2 (mide atención selectiv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SAT (prueba de búsqueda visua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pa del Zoo (mide capacidad de planifica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estionario de Ponsford y Kinsella (mide auto-percepción de problemas atencional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PROTOCO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Tareas atencionales de T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T (mide alerta, orientación y contro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digma del costo por cambio de tarea (flexibilidad cognitiv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area Stroop (mide control de interferenci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area de memoria de trabajo N hacia atrás (mide mantenimiento en curso de la información y carga de memori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PROTOCOLO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Tareas no atencion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ini Examen Cognoscitivo (MEC de Lobo): mide deterioro cognitivo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I de Spielberg: mide ansiedad de estado y ras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DI de Beck, inventario de depres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EDA de Kurtzke para medir discapaci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RESULTADOS en tareas psicométric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itamos sólo las tareas atencionales donde hubo diferencias significativas entre los dos grupos con el tamaño del efecto muy gra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TAREAS PSICOMÉTRICAS: VS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720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LA ESCLEROSIS MÚLTI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sclerosis Múltiple (EM), es una enfermedad crónica del sistema nervioso central (SN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fecta con más frecuencia a personas jóv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M se caracteriza por placas: son lesiones inflamatorias y áreas de pérdida axonal y miel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uede ser leve, incapacitante o devast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 causa la EM?. Se desconoce pero se considera una Enfermedad Autoinmune, las propias defensas del organismo atacan al SN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DATOS DEL VS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media de objetivos de los controles es 170, la de los pacientes es 9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 = 2.6, % de solapamiento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decir, sólo 10 de cada 100 pacientes puntúa de manera semejante a los contro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TAREAS DE T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ólo el paradigma del cambio de tarea y la tarea Stroop muestran un gran tamaño del efe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Cambio de tarea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: La persona debe alternar entre dos tareas continuamente. Esto aumenta su Tiempo de Reacción. Es decir, produce un costo. A menor costo, mayor flexibilidad cognitiva o capacidad de cambiar de activ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DESCRIPCIÓN DEL CAMBIO DE TARE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DESCRIPCIÓN DE LAS TARE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area 1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Decir la dirección hacia la que apunta una flecha, izquierda (&lt;-)  o derecha (-&gt;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c600"/>
                </a:solidFill>
                <a:latin typeface="Tahoma"/>
              </a:rPr>
              <a:t>Tarea 2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Indicar el hemicampo visual donde aparece la flecha, izquierdo o derech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cuencia  de ensayos 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1t1t1</a:t>
            </a:r>
            <a:r>
              <a:rPr b="0" lang="es-ES" sz="2000" spc="-1" strike="noStrike">
                <a:solidFill>
                  <a:srgbClr val="00c600"/>
                </a:solidFill>
                <a:latin typeface="Tahoma"/>
              </a:rPr>
              <a:t>T2t2t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ipo de ensay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 cambio de tarea respecto al ensayo anterior (el primero de cada serie de tres: T1 y T2 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 repetición de tarea (el segundo y tercero de la serie: t1t1 y t2t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COSTO: Diferencia en TR entre ensayos de cambio y repetición de tar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Tareas de TR: el cos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digma del costo por cambio de tare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 &gt;4, %= 2. Es decir, sólo 2 de cada 100 pacientes tiene un costo semejante a los contro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costo de los controles es de 49 milisegundos, el de los pacientes de 72 milisegun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TR de los controles es de  400 milisegundos, el de los pacientes de 800 milisegun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TAREA STROO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maño del efecto: d=1.7, %=24.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 cada 100 pacientes sólo 24 tienen un efecto Stroop igual que el de los contro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fecto de 115 milisegundos en pacien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fecto de 64 milisegundos en cont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PAPEL DE LAS VARIABLES CLÍNIC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jecución con el paradigma del Cambio de tarea no se ve afectada por la puntuación en depresión, ansiedad o discapacidad fís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jecución en el VSAT sí se ve afectada por todas las variables clínicas. A más depresión, ansiedad o discapacidad, peor puntu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s variables también afectan  a las puntuaciones en el cuestionario de Ponsford y Kinsella en el mismo sent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RESULTADOS PARA LAS VARIABLES CLÍNICAS EN LOS PACIENTES: </a:t>
            </a:r>
            <a:r>
              <a:rPr b="0" i="1" lang="es-ES" sz="3200" spc="-1" strike="noStrike">
                <a:solidFill>
                  <a:srgbClr val="ffcc00"/>
                </a:solidFill>
                <a:latin typeface="Tahoma"/>
              </a:rPr>
              <a:t>ANSIE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siedad alta v baja: tienen una d de Cohen de 2.4; un % de solapamiento de 1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upo Ansiedad alta: en VSAT 83 objetivos tach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upo Ansiedad baja: en VSAT 123 obje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RESULTADOS PARA LAS VARIABLES CLÍNICAS EN LOS PACIENTES: </a:t>
            </a:r>
            <a:r>
              <a:rPr b="0" i="1" lang="es-ES" sz="3200" spc="-1" strike="noStrike">
                <a:solidFill>
                  <a:srgbClr val="ffcc00"/>
                </a:solidFill>
                <a:latin typeface="Tahoma"/>
              </a:rPr>
              <a:t>DEPRE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presión ausente v significativa: una d de Cohen &gt;4; % de solapamiento de 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upo depresión ausente: en VSAT tiene 120 obje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upo depresión significativa: en VSAT tiene 80 objetiv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VALIDEZ CONVERGEN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correlación entre VSAT y Paradigma del cambio de tarea es de – 0.7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tarea ANT de Posner no correlaciona con ninguna otra tarea aten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correlaciones de las restantes tareas psicométricas con las demás tareas son moderadas: entre 0.40 y -0.4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correlaciones de los índices de función ejecutiva en TR entre sí son altas: 0.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DISCUS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todas las tareas atencionales miden lo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pacientes muestran daño en unas sí y en otras 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tareas más discriminativas s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.  Paradigma del cambio de tarea, VSAT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 Tarea de Stroop, memoria de trabajo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3. Ponsford y Kinsel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discriminan: D2, el mapa del Zoo y A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variables clínicas no afectan  a las tareas de T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variables clínicas sí afectan más a las pruebas psicométric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lentitud del procesamiento no explica los problemas atencionales, pues son lentos en todas las tareas pero sólo tienen problemas atencionales en algun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odo lo anterior podría explicar los resultados contradictorios prev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ESCLEROSIS MÚLTIPLE  Y DESMIELINIZ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fibras nerviosas que entran y salen del cerebro están envueltas por una membrana aislante llamad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iel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ielina permite una conducción, veloz y precisa, de los impulsos eléctricos a lo largo de la fibra nervios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gunas enfermedades autoinmunes provocan la destrucción de la mielina (desmielinizació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EM conlleva la desmielinización en el sistema nervioso central (cerebro y médula espinal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uando la mielina está dañada los nervios no conducen los impulsos de forma adecu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CONCLUSION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son más l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son igual de exa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perciben que tienen problemas aten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tienen problemas de depresión y ans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no tienen deterioro cognitivo gene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muestran menos capacidad de búsqueda visual y menor flexibilidad cogn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6699ff"/>
                </a:solidFill>
                <a:latin typeface="Tahoma"/>
              </a:rPr>
              <a:t>PERSPECTIVAS FUTU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plicar nuestra evaluación neuropsicológica atencional a muestras de pacientes más amplias y homogéneas (años de evolución, número de brotes..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bajar en la rehabilitación atencional de pacientes con 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er si la rehabilitación atencional puede mejorar los problemas de memoria o de resolución de probl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ahoma"/>
              </a:rPr>
              <a:t>GRACIAS POR SU ATEN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3959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SÍNTOMAS PRINCIPALES DE LA 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euritis óptica: inflamación del nervio óptico (Visión doble o borros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ficultad para cami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ilidad en los músculos de las extrem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ficultades de coord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tig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pastic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emb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Deterioros cognitivos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DIAGNÓSTICO Y TRAT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isten los Criterios Diagnósticos de Poser (198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 mejor es combinar los marcadores neurofisiológicos  (RM) con el juicio clí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btipos: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EM Remitente-Recurrent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(EMRR) y EM progre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EDA- mide la severidad funcional de la 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miento principal: Interferon beta para disminuir el número de brotes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LA INVESTIGACIÓN NEUROPSICOLÓGICA EN 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ha caracterizado por la variedad de los procedimientos utilizados: baterías amplias o bre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uebas no equivalentes para medir la misma fu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utilizan muestras de pacientes muy heterogéneas en su clínica (subtipos de EM, años de evolución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 anterior conduce a resultados contradic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LA DISFUNCIÓN COGNITIVA EN 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el 4º problema, tras los problemas de locomoción, incontinencia y emociona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iene un carácter individual e impredecible porque el patrón de desarrollo de las placas es aleatorio en cada paci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déficits cognitivos pueden no ser apreciables en la convers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El principal problema es la lentitud en la velocidad de procesamiento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No son predecibles por el daño cerebral, el curso de la enfermedad o el grado de discapacidad fís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PERFIL NEUROPSICOLÓGICO EN 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Capacidad intelectu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suelen presentar alteraciones en pruebas que miden el 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azonamiento abstrac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tienen rendimientos inferi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Lenguaj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no es frecuente los problemas en este área, salvo en fluidez verb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Memor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El recuerdo está más afectado que el reconocimiento. La memoria de trabajo verbal es la más afect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ercep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Las dificultades visuoperceptivas pueden ser secundarias a la neuritis ópt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Motivación y emo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Son frecuentes las alteraciones del estado de ánimo, depresión y ansie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ATENCIÓN Y 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os estudios sobre alteraciones atencionales en EM ofrecen resultados contradictori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 En ocasiones esta función parece intacta y en otras dañ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reas atencionales más usadas: PASAT, Stroop, Wisconsin Card Sorting Test, Trail Making Test...(TODAS SON PSICOMÉTRIC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7:18:47Z</dcterms:created>
  <dc:creator>mara</dc:creator>
  <dc:description/>
  <dc:language>en-US</dc:language>
  <cp:lastModifiedBy>mara</cp:lastModifiedBy>
  <dcterms:modified xsi:type="dcterms:W3CDTF">2006-06-17T20:02:48Z</dcterms:modified>
  <cp:revision>126</cp:revision>
  <dc:subject/>
  <dc:title>ALTERACIONES ATENCIONALES Y DE LA FUNCIÓN EJECUTIVA EN ESCLEROSIS MÚLTI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